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554-110D-4A74-A932-1DB03A0C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350-6EE3-4BF8-BAFF-71CF6F4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C86-6458-4678-8214-61A12D5E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4B1-20C9-4445-B2B3-3556EC0C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D61-1CEE-471A-B16A-D011A3CC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778-F443-40D0-B569-DC96DC3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B7D-F90D-4973-BFE4-6B7F9FEA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469-FAA1-4F7F-B0A4-0429C5B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50CF-4C37-402F-AE9C-B6EA3119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44FE-3DC8-44AC-9006-318BC77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2EB-8E79-4DB7-B308-9FC9151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2A-BD09-44FD-B14F-16E18F6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9F9-54E9-4FA8-981A-F073BE9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7F87-E0B8-4C90-8733-3950818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74D0-5959-4430-93BD-889CE15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68D-4106-4561-AD3E-D04A5E94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D5D9-73AD-40DB-9EE5-01DA1F8C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3D3-ED84-4F43-ACBA-6B7CBDF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A66-3D21-412B-916F-CC305E66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639-7416-418F-A929-4237757D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690-27F1-45A7-B66F-6DD0429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B00-1582-4DFF-9DD5-E111139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6B2-6AD0-48C8-9688-424173E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7DA-4F11-430C-92DE-B789DA0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0697-27EF-4B1B-998F-D4B67B9B0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B21-D853-4C2F-8E31-5593AA242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d9ff"/>
                </a:solidFill>
                <a:uFillTx/>
                <a:latin typeface="Comic Sans MS"/>
              </a:rPr>
              <a:t>St Ives</a:t>
            </a:r>
            <a:br>
              <a:rPr sz="4800"/>
            </a:b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1125000"/>
            <a:ext cx="67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dd y gerdd ‘St Iv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As I was going to St I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I met a man with seven w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Each of the wives had seven sa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In each sack were seven ca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Each cat had seven k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Kits, cats, sacks, wives – how many people were going to St Ive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elly sawl person oedd yn mynd i St Ive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16720" y="4149720"/>
            <a:ext cx="1887480" cy="208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20000" y="2133720"/>
            <a:ext cx="13636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10634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53:00Z</dcterms:created>
  <dc:creator>Carwyn</dc:creator>
  <dc:description/>
  <dc:language>en-US</dc:language>
  <cp:lastModifiedBy>Carwyn</cp:lastModifiedBy>
  <dcterms:modified xsi:type="dcterms:W3CDTF">2008-12-07T20:00:09Z</dcterms:modified>
  <cp:revision>2</cp:revision>
  <dc:subject/>
  <dc:title>St Ives </dc:title>
</cp:coreProperties>
</file>